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E07-F860-4152-B37D-BFAFBA47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BF77-FA9E-4AED-8B9F-EC369FC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5334F-2A76-4FD3-936E-B53DB519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9CC3B-C6DF-4E47-8B39-B9963021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C1DB87-BCF1-4B61-971F-9CA30710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EF6A1F-4CB5-4D4B-A2E4-7CCC604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A1E42-409D-4A79-8F4C-4B42E249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D2CBD-AC12-40BC-AE0A-EB6496CA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6B6E5-9835-4580-8E87-531A3C95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429B1-B8B9-4741-867C-3953D842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37928-BDCB-438E-9E0E-FF983C84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E576A-9EA0-4B20-95D4-0070CCFC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B7D-ED1D-4E12-82E9-CC91FAB7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E531E-6D96-47BA-AD8B-1DED1760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738C3-4752-42B4-BABB-9E9DBEF8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1107E-ACA5-4134-B3C2-B760D83E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052B9-D21A-4AF9-AFD4-36658D4E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FFED1-5FB8-4CAC-8353-2E2F347A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C525A-2F1B-4505-B90D-E1C75D3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9CB4F-37B7-4CEE-8608-13B7AF00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EA0D2-D5D3-44DE-B5AA-79A1F4A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ED9F0B-3F3C-4ED9-A716-E0C826BB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C76F3-B717-4CAB-B4D9-D6030B19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B9F-E960-47B4-969B-AE955DBC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66FFC-82F9-4D79-851F-77A32184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D3551-481A-43D9-850E-303D89AB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8707E-A639-477E-8A22-33EFE381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80820-6904-4C93-B7AC-64A3CC23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67FEF-0895-4367-B652-AFD70B18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1F1D8-5C74-4891-A709-D536D9E4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0D98A-A7DB-4467-96FB-98732EA7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82D74-5CB8-4F30-B2D5-35C3CF1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EE3C91-46CD-4A58-9C70-4ED8B61A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304F6-4133-4AC0-AA96-9391774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29AD-A9B0-4F23-A65D-4B442086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C7980-9CDB-46EC-895D-12312F7A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FC3ED-6726-400C-B683-F0D4787D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69062-F24D-42EC-AE0B-6F2A511C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1F37C-8A19-49AE-8B61-2D084098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3B2F5-21EA-4FF8-9DED-D1F15307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9CC9C-67B0-4C11-8952-EBF537D7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EA710-82D3-4F8A-8B1C-4B3D41D5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AFA0C-0F7E-488E-80FB-6B31B760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7CF9E-D37B-49AD-AB6D-088F2CA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C1658-F28E-4F8D-B64F-EF493563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FB5D-304F-4DDF-843D-A3BE5EBF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C6435-FAE6-40F1-AF2A-93740D2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A25F9-1D08-4358-944E-822B06FB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3F11E-8CD9-41DD-BF8D-2BBB423A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5215B-C62F-4E2D-8BC4-57CEC3E5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675E5-3D68-4404-9929-D8542DEE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B4BB2F-6C21-44C0-BA03-8E7A75E1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BA388D-7790-4075-A6E2-46C8E06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F3524-DF46-4864-84C9-3CC1C6E7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BF63F-A1E4-42C6-9E72-015A6E37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06981-8B78-4D68-81FD-B15E4391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C203-DDE1-42C4-84A4-6013731D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739D2-0C29-439F-B0EF-07700C6B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471B4-4139-48A9-9F71-C79B2A0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A593C-2B71-456E-AD49-968B6DEB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EFAE0-29B4-4E79-8409-37D3EBB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FC684-DE70-4795-BC4A-A9A1DD1A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F413C-B9BC-45FA-AB7C-5AA896D3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EC2DB-BFBE-431C-BE08-27DAC549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642A2-B1CB-4E8A-8EAE-62C6252D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8A450-F7DD-4A47-B236-405AC201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476AB4-D329-4DEE-A432-583B2DDE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6D20-2914-401F-81F9-C0F0943E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1FEFFB-194A-4EF5-A166-BC16A2A8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D17EE-FF44-4D94-8295-89F0ED25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0EEF1C-BBA0-48DE-A440-2B3A13DD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4436F-B0D8-4A4C-911C-EDCAA509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F06AFA-12CC-4D96-AC0D-D8CE823B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B64F5-E3F6-405E-AF30-60B3BCB8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180327-3531-481E-9FA7-82A48B5C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A3AB3-24C2-4760-8518-4C7E75CE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73D8C-8CCD-4ECC-A853-B9DF8C55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6634C7-48E3-48E9-836E-2248261F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8104-6A7A-4F5C-8F05-9FE14955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43B79-BA6E-4BE4-B25E-B7E268F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4D0AE4-AC6E-4688-9329-8CF7A289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BC2B27-B0C8-4901-9A5B-08D41D81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7CFA64-A3C5-4362-87D2-66BDCB58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288681-EF59-4BBA-9211-F6C148AF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B25F9-AC64-4E78-933A-8D5512CC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66AB7D-F026-4969-AB8B-B5E69640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1F50E7-A17B-4DF0-989A-A4EB6B3F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A04CA-B539-447C-A848-1366A42D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1A618-1D89-4A85-9C41-F19717B3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2F95-4DEA-4D62-861D-8BC006C4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A39D4-63EA-4F7B-846A-4514A4FB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CDB3B1-0456-4BF9-80A2-38D5C879E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45541-8C77-4501-A5B1-A0305DF6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0D150B-8A6F-48A3-AB47-5E4985B7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6CF0A9-3CD7-4837-9115-5F05F3AB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0AEAE-180D-46C1-A802-CFDEB57F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EA3E2-F7E6-4556-8C91-FE950863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FC00F-C166-4494-94AE-37B781AE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02246-0DE7-425B-B1DD-99FC11F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B212A6-4DD6-4F50-9471-2C1F3BD4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D545-9151-4158-9E2E-C8CE7E34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17FED-3D68-438A-BC07-AF74F9C9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DB3C3E-5B50-42CD-9539-5ABD21E1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7A67E4-CE34-4BA5-989D-D2373A1B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93E29-84D3-4006-9B92-0364CF91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99C30-B38F-4A62-A5ED-EA7BB25B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508FE4-7C15-440D-8493-0D3DE4A6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D2C10-09F8-45EB-956F-7F7011E9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9FEF4-16A3-4CF1-9469-02F4D7B0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774FA-38E8-448F-9809-EFCA12C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493419-8EB6-4BCA-9BAF-DC526073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B91-8A9A-441F-9FB5-26B92CA5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708F-28AF-47D5-B791-A46DD5D9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D97BD-602C-4C3A-AB90-3FF42589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235970-C40B-4270-BC9D-874298B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AA85F-427B-41AF-8652-873128A1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B4842-9E90-4D49-9B50-799EC7E1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6C47E3-4DEE-4A12-B3CC-A5195D83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A3ABB2-9D81-4AE4-B913-A86684D2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FA3D4-4ACD-40E5-96FB-A02BC2D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511479-7143-45EA-954A-782CEDEB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1AE5FB-8E73-4674-9635-04EA7385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A5AB67-C617-4142-A864-AAB1A851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6873-939F-4AAF-B4CD-DD0290F0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8AEBD-9408-46CA-9A06-47D88698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C730D-5ED9-4F6E-8F95-8C91001A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1C6044-EF29-4124-B208-C7731276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1D8B65-C4E2-4D85-A1B1-754281D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3299B-5E6D-45AD-A689-C64E5F93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02AC7-15EE-459E-BCA8-43AD95B92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D410F0-2F39-4006-AAF2-DF4E4281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28C3B3-4078-41E3-B6B5-611DBA82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038792-88EC-48DB-9E91-9F135532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56464A-7701-45C9-8E2A-A93A5BD2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184E-FC36-4570-B44B-7D81248F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FFB5C5-BF3A-4137-9863-8099110E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2AA84-78FE-4349-BC4C-13721D7D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B9A9A-D607-47E5-AE0B-F5258330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D26464-8248-4F80-B81B-D049CC0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05725A-B394-4C02-9063-EF3D672C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51F67-C6D9-44F5-9B35-9F3287D8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78FC3F-7A7C-4688-A0E0-13F550F5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06C01E-6023-4BDC-89E8-E58B97311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7F0AB-C6A3-4A2E-B06F-B2CF2460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8F037-8F54-4AAF-9399-01C90C16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A49F-F0C2-4550-8FAE-1DCD3D1A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2A8C8D-1DE5-49BF-BF71-AC6257F3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16407-15FC-4DAB-97B4-B99B0829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51E97-39E3-40EC-8789-6B150F5D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A2321-A683-42DF-888F-96205E40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3B29E-4598-4F58-AB00-98BD51E7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A82010-1E6A-4A65-94A4-B88E1322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65A80-7A5E-40E2-80F4-0B6CC979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EB4A7-1917-48D8-838B-2D9026E0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D5128-5D91-42A7-8495-6F3F5D02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1313D2-6472-405E-8BC3-645A7721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C9F5-01E0-482F-8EE5-EB6618C6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5D73FD-86F9-49C6-82BD-E5630464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5977A-61A1-4B67-9533-DBB3D073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263CD6-CA35-475B-827C-C926A637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3D9563-AE37-435B-8928-0D06C2C9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AF1CA-B097-4F95-9EE1-FE8EE70B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4DDAD-6224-41EB-A85B-D4AE9B68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CDC42-F555-4469-9948-A8B7FEE4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FC5E70-FBB4-48A7-9644-B7D8F74C1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3E480-6828-447E-B524-E9082402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D31FDF-92FE-4D6E-9171-B69B23E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8A515-A444-424F-86BA-CB94A15F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07C224-ED21-4C4C-96B6-8D69B586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87C71-58B5-4AE7-8C55-97CF91731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2C127-5F22-40EF-9DF9-007E7CDD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F7971-71D8-45A6-B80D-D884742D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338D2-5372-4559-B5CF-03A27CCA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24EC7-8129-4664-9A2F-4D948749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7348-ADDA-4B63-AAD9-5437A343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0D5-4E24-4D51-9691-8E4C6240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25B8-7757-4B8C-9643-09915185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66716-7609-47F3-867C-B7868A3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EDF2C-FB36-46D4-B17F-6FD079E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0429-9458-4FB3-AAA9-5E0D3A9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77AB3-BE2E-4B5D-8E04-21AF7CE3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EEC4-455A-4CD6-B050-08CED92C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70B91-01DB-45CC-91D8-170EEDCD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C9252-BF37-455D-87BE-107EBBDE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45B0E-15F0-4AF6-8298-844C5F81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5DE4D-E09D-42AD-B91E-C5ABD9DE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CEB-99F3-4916-B9D0-EC57D3FED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8A86-66B4-4432-A673-ED8B6FB7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3EB8-060D-4B67-BA8A-982588EA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1E49-105E-4786-ACC0-2FAEF2D6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AD81-B5F1-49F2-9E89-7CCFB741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A75FC-8FEE-4256-BECF-D22F0EF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6D930-0F5E-4AC0-BE70-6F5DF106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B97A-90DF-4212-BE09-FBF78BF2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03708-A9EE-41F6-A276-942E0FC9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E767F-EE81-4DF7-8D85-EFB77EE91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561B-E913-459E-A4C4-6944D540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275-2EA6-4EA3-8BC7-C0A91C7B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9AC93-82AE-41CE-9BFC-E28E949C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F3F14-ED6A-427C-86D8-A447C0E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11CD-86D7-4884-8BE0-FFCCF16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520AB-7CDC-4523-8BE8-B0F8BAF3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DF34-A3C0-43A7-A74F-FC3B67D1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3B2AE-120A-4C32-BB71-BF256EED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6C1E9-C81E-46A4-9EF0-F80874A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61B40-13D4-4454-B711-FBA5ACE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E7280-9B22-48B8-8B06-916D2D51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25ACA-4880-42AA-AF1E-4027DFF8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76F9-4B96-4293-ADA3-3E55162E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D02DC-4309-410B-A49E-AFB0A894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75628-8E3C-4425-A2A8-DD7EA440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B4EB4-8AE1-4C26-9116-C8A10D3D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1D1A1-CB2F-49B5-B1E4-226A2DF9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BB724-E9AB-45EF-9C1A-E0C9AF92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EA947-4B42-4643-A898-3923C76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591FE-3991-4244-9D07-D748043C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696FE-53DB-4DE7-BB1B-FC65ACF2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FDA41-1D2E-496C-8745-D3C1670A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751D2-74FB-443B-9330-ECDE0DB0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C35-E03A-49AB-AF59-71B2FD94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C4D20-298F-48A6-852C-F1C69D59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251D8-3D34-48E3-874E-0FA23717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79C7-E407-4894-B912-D9E5FEFA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4328B-228F-4966-9FB2-4CEB6F4C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F8122-9BC5-40D0-BAD3-0F690AC5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B657-B6D0-4A31-B860-F934DAEC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D7BAF-14FF-43AD-9266-FA061ABB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85297-84E2-4076-BF5F-7668833E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142A0-5D96-4434-BB32-1F1B5A6E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A8517-9D9E-4C6B-9870-5EBCEBCF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F86-4C6A-45DF-AF5E-C0C6D7A3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45CB3-5E60-4A31-9B8F-A2C81391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667F1-7AF6-4246-ACDA-6AB04E3D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28109-5CD2-4C13-BB9C-5D701E43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306FB-4946-47A5-8497-A37FD8FE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E2BD7-794E-4FAE-B847-2952126D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3EE41-863E-40BF-BB23-7AF3CC66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42F74-925C-4C05-8294-482018D3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E542A-23B8-40BB-A5BB-B6EA4DBD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857C7-CDE7-4CBA-9A83-ED618E1C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1922B-800A-408C-BCC4-917A31E6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DCD-7DE4-4AA2-9567-A902293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D0E0E-7505-48CA-8D64-9F3FE687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75C1E-206F-4364-AAD5-032BBAE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6631C-101C-4A2C-8350-9EB7E4FB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EDA55-963E-4B34-9D52-A455534F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7ACB7-0028-4B6D-A8D2-15A9A845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33264-E07C-4B10-A77B-88DF1A7F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A48DF-80B1-4D08-B997-73D85B33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35D45-987B-4E49-8D0D-2B04FB8B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9F3C6-5264-4C50-9129-4F056542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84F7F-397A-432F-B1C4-C1FB88B0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E730-0228-4C14-AD62-CBA9DECA7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5163-5DA6-45F0-9F45-B4373C471F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A398-C886-458D-ACFB-B971C9BB1D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B8B2-88BB-4EFD-8476-B8F81A23E3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7459-7589-4667-BE3E-9340A821A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DC94-63AB-4D80-8B4F-662303BBB9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C10F-D622-4CE2-8209-ACCBD484C0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94F9-C98F-4482-9F1C-DB3598664D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F361-FFB1-464D-A74F-4660C5A084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1DB9-EB7D-46D4-9EFC-C240D9594A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084E-E586-41CC-9B4C-BFF59F34A6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0B13-7D09-4EBF-AC44-24226E8F07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FC4A-9F65-4B49-A7F2-5DC97183E0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85EE-8F56-4B3D-BA82-AB531630C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2EED-2475-4535-A9EF-04B5DB3E0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39E7-5D3B-4089-B309-74ADE6D8F5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80D1-3681-47BB-BD49-9435563177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99C4-05B6-47C6-8200-96D72B8C7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2CBF-CC5C-43B3-9F02-CB002A390A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26B6-E9F7-4C6F-82B1-53C11D2D32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1502-16A7-4D1B-9F91-722F823203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5A78-ABDD-4FEA-9FA4-4F9BA016E5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EFB1-2A4E-484A-9FE4-4410B05312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D545-EAED-453D-8757-3FF05F69DF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0242-50F0-4E9F-BF02-4A89F938CE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4C6A-31E8-4105-BC43-1C11F39327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354-F01B-4826-89E8-6FD7F49209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DD55-489C-41A8-AEF3-97EE9DFE3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DBF9-C424-4054-91BE-4D5888875C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E956-A4E8-4F84-9BBD-C18F98347A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8080-3D4F-49E8-B64D-DFB50AC7A5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69E2-3477-41B0-8C4B-C04F18A73D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625F-CC23-4292-A720-9AEDD7A2A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0100-A494-4925-980A-143D82A04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B0AD-69D1-420C-97B0-1E29CF6EC1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C765-A0F7-4198-B74D-1B599793C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E4B2-A642-437F-9FC1-5A16C7BB55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97A7-28A6-4FDD-9216-AAD755E905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26E9-481C-45CD-957B-2EDA6113D3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8977-35B8-4B6C-A1E0-1B92AA26E6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3077"/>
          <p:cNvGrpSpPr/>
          <p:nvPr/>
        </p:nvGrpSpPr>
        <p:grpSpPr>
          <a:xfrm>
            <a:off x="222120" y="1463760"/>
            <a:ext cx="8893080" cy="3405240"/>
            <a:chOff x="222120" y="1463760"/>
            <a:chExt cx="8893080" cy="3405240"/>
          </a:xfrm>
        </p:grpSpPr>
        <p:pic>
          <p:nvPicPr>
            <p:cNvPr id="1025" name="图片 1" descr=""/>
            <p:cNvPicPr/>
            <p:nvPr/>
          </p:nvPicPr>
          <p:blipFill>
            <a:blip r:embed="rId1"/>
            <a:stretch/>
          </p:blipFill>
          <p:spPr>
            <a:xfrm>
              <a:off x="2950920" y="1463760"/>
              <a:ext cx="3543480" cy="88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" descr=""/>
            <p:cNvPicPr/>
            <p:nvPr/>
          </p:nvPicPr>
          <p:blipFill>
            <a:blip r:embed="rId2"/>
            <a:stretch/>
          </p:blipFill>
          <p:spPr>
            <a:xfrm>
              <a:off x="1004760" y="2671920"/>
              <a:ext cx="7076880" cy="8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图片 3" descr=""/>
            <p:cNvPicPr/>
            <p:nvPr/>
          </p:nvPicPr>
          <p:blipFill>
            <a:blip r:embed="rId3"/>
            <a:stretch/>
          </p:blipFill>
          <p:spPr>
            <a:xfrm>
              <a:off x="222120" y="3860640"/>
              <a:ext cx="3485880" cy="75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图片 4" descr=""/>
            <p:cNvPicPr/>
            <p:nvPr/>
          </p:nvPicPr>
          <p:blipFill>
            <a:blip r:embed="rId4"/>
            <a:stretch/>
          </p:blipFill>
          <p:spPr>
            <a:xfrm>
              <a:off x="4076640" y="3916440"/>
              <a:ext cx="5038560" cy="95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533520" y="2247840"/>
            <a:ext cx="8076960" cy="23623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258920" y="2852640"/>
            <a:ext cx="583416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1116000" y="4019400"/>
            <a:ext cx="58341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9" name="图片 1" descr=""/>
          <p:cNvPicPr/>
          <p:nvPr/>
        </p:nvPicPr>
        <p:blipFill>
          <a:blip r:embed="rId1"/>
          <a:stretch/>
        </p:blipFill>
        <p:spPr>
          <a:xfrm>
            <a:off x="200160" y="1209600"/>
            <a:ext cx="874368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2" name="图片 1" descr=""/>
          <p:cNvPicPr/>
          <p:nvPr/>
        </p:nvPicPr>
        <p:blipFill>
          <a:blip r:embed="rId1"/>
          <a:stretch/>
        </p:blipFill>
        <p:spPr>
          <a:xfrm>
            <a:off x="576360" y="2324160"/>
            <a:ext cx="79898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5" name="图片 1" descr=""/>
          <p:cNvPicPr/>
          <p:nvPr/>
        </p:nvPicPr>
        <p:blipFill>
          <a:blip r:embed="rId1"/>
          <a:stretch/>
        </p:blipFill>
        <p:spPr>
          <a:xfrm>
            <a:off x="657360" y="1295280"/>
            <a:ext cx="7829280" cy="42674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3635280" y="244944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4932360" y="2449440"/>
            <a:ext cx="1584360" cy="4492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7020000" y="242100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3635280" y="3573360"/>
            <a:ext cx="93672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6"/>
          <a:stretch/>
        </p:blipFill>
        <p:spPr>
          <a:xfrm>
            <a:off x="4788000" y="357336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7"/>
          <a:stretch/>
        </p:blipFill>
        <p:spPr>
          <a:xfrm>
            <a:off x="7020000" y="35733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8"/>
          <a:stretch/>
        </p:blipFill>
        <p:spPr>
          <a:xfrm>
            <a:off x="3535200" y="468144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9"/>
          <a:stretch/>
        </p:blipFill>
        <p:spPr>
          <a:xfrm>
            <a:off x="4830840" y="4653000"/>
            <a:ext cx="1901880" cy="449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10"/>
          <a:stretch/>
        </p:blipFill>
        <p:spPr>
          <a:xfrm>
            <a:off x="6877080" y="4667400"/>
            <a:ext cx="1440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" descr=""/>
          <p:cNvPicPr/>
          <p:nvPr/>
        </p:nvPicPr>
        <p:blipFill>
          <a:blip r:embed="rId2"/>
          <a:stretch/>
        </p:blipFill>
        <p:spPr>
          <a:xfrm>
            <a:off x="519120" y="1085760"/>
            <a:ext cx="8104320" cy="4686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3"/>
          <a:stretch/>
        </p:blipFill>
        <p:spPr>
          <a:xfrm>
            <a:off x="154764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4"/>
          <a:stretch/>
        </p:blipFill>
        <p:spPr>
          <a:xfrm>
            <a:off x="1547640" y="3284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5"/>
          <a:stretch/>
        </p:blipFill>
        <p:spPr>
          <a:xfrm>
            <a:off x="1547640" y="465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138320" y="2109960"/>
            <a:ext cx="6867360" cy="2638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1" descr=""/>
          <p:cNvPicPr/>
          <p:nvPr/>
        </p:nvPicPr>
        <p:blipFill>
          <a:blip r:embed="rId1"/>
          <a:stretch/>
        </p:blipFill>
        <p:spPr>
          <a:xfrm>
            <a:off x="237960" y="1095480"/>
            <a:ext cx="8668080" cy="4667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1258920" y="1900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738360" y="1147680"/>
            <a:ext cx="7665840" cy="4562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042920" y="117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33240" y="2166840"/>
            <a:ext cx="7875720" cy="2524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00000" y="21765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1" descr=""/>
          <p:cNvPicPr/>
          <p:nvPr/>
        </p:nvPicPr>
        <p:blipFill>
          <a:blip r:embed="rId1"/>
          <a:stretch/>
        </p:blipFill>
        <p:spPr>
          <a:xfrm>
            <a:off x="254160" y="1227240"/>
            <a:ext cx="8637480" cy="40860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1258920" y="2116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1258920" y="270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1332000" y="3357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1258920" y="4005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6"/>
          <a:stretch/>
        </p:blipFill>
        <p:spPr>
          <a:xfrm>
            <a:off x="1258920" y="4724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1938240" y="1747800"/>
            <a:ext cx="52675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176040" y="1004760"/>
            <a:ext cx="8790120" cy="4848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2"/>
          <a:stretch/>
        </p:blipFill>
        <p:spPr>
          <a:xfrm>
            <a:off x="1547640" y="2363760"/>
            <a:ext cx="518508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1187280" y="4135320"/>
            <a:ext cx="734544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1042920" y="5272200"/>
            <a:ext cx="73454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2:44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